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6F751-03E9-48BD-9349-0AA2A17FA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6ED6B-B98A-42C2-B8DB-FEA380815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EF30AB-139F-411C-AE4B-9C62EB1B8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87B90A-3610-46DF-9252-E39C8A82F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5191B2-BBDF-45C0-A7AC-6FDE822A3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D96859-E7A7-4B10-83A4-BE06B59B2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50FD8C-DFDB-4C96-8894-C6DBE36D0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CD8756-0CDE-47C5-8CD7-C01200F9E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DE3A5B-1D8B-4696-9B32-E25DA541D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9785A9-38B7-4C3E-B01A-0E7FD169C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1B4FF7-0C17-438F-95B7-B271AC439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18F486-30EC-480D-9D02-BC53D6A33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E5BD4-D1D0-4B1F-8A83-C6F02363A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2BCC23-EFDF-4248-89EF-D664E65AB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2DF9CB-DCE1-4341-BD00-44E101FA8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E3F9DF-6410-4BBE-8643-30100D0A1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35EA47-D00D-4D4F-9BD5-DFD9EC8AF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3522C4-4E0D-4E1D-A043-F9E9014E8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2865D0-A87F-49BB-A7CA-C3BBD9568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4691BE-47EB-445E-846B-C54FD6C27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1361B3-0BC7-4556-9A41-73226383D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605550-A973-4B76-AC96-6BA727BC6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4A8353-BCE2-437E-9825-A3F2A9664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C8B0E-A561-46B0-B8F4-5A09D4F9E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D277F0-4C08-4C1D-8882-80E7BD2D0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D1F44F-D96B-4800-9AE1-56FCEF829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A454FE-441F-4F99-A47A-5E348C074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965630-F986-4987-B166-D405511F9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68307B-4DD5-447C-BEBD-DF2F9A486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C6D0AF-FCF6-4385-BA56-3C4F257D6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DF31BF-1DBE-410C-8DDA-9C7C99511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3A0B04-0FA8-4F0F-B2FC-9E2CCBD37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D497C8-9743-49FE-A98B-B9E68FAC6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DF7092-9807-409D-A41C-818293E15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11847-62BD-4064-89A1-C45AEB97F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F2F4DC-EED7-4AEC-ADF7-BB6CBEB60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4E4186-1C9F-4E3B-9C5E-23CD8F5EB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09730A-E47C-4925-BDAC-059935C55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3B4467-FA12-4746-99E2-7C68621FC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C5FFC8-8CA2-4CFE-BBF0-52243E952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B445D9-5968-419F-8B3E-0F5E49362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F8FDC8-ED6D-4994-9A24-5B8E96360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BF77F9-51AB-4B83-88A2-9418871C0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D5A6D6-0BC4-49C2-9339-2D73B2B54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3277E6-A1C5-42D5-82EA-5EAC96A5D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E6B19-9EC3-4758-9A71-250BD9B61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34F450-3419-4706-A4E1-F7CE7D10D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A7EBCC-0F44-456B-8310-8777F4D58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F3194D-187D-450A-A011-89BDEC2FE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5CABFF-E622-404F-8A1D-D4F4B59EC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402994-5500-41D8-98E6-F02DD8FC7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C1B42D2-75F5-46A7-B029-31E7B5EC9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91F4B9D-95A9-47F5-88E8-BE8B8559E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43DF0D0-D9BA-4C9F-ACE8-0AB99C63D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F5199FD-051C-4D2E-83DA-C5D0C1651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D1DFDD3-3782-4741-B87F-25980CE11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85A33-DC87-4B1A-B617-0FBA9B67B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C3E0D24-181B-4409-BE40-8F9DE5D37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FE29FC3-F3EF-4DC0-8C50-9C0ABAE1B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2CA4723-101F-4C78-8142-54C321150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9A58877-2D92-4485-8982-9C3A95F26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4752F8C-9144-4430-B4D5-FCAEBA9E3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74E1B69-B329-4915-BAF1-6B2B3BA50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E811179-A82B-4848-92F6-E6A51C573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B232359-50D9-47E9-91FA-2A88BC88B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CB0D44C-6ED0-4735-B991-5DAF9F9FC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17FB7D1-DC5D-4DD7-A063-7DD6A256A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F653F-ADA1-4EF4-ACF7-BD3FCE447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5CF1550-8764-4267-9791-640D08D0B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E8C8B2B-9F20-401F-A68A-BE4E042BB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6956C01-9C82-46BF-B4AC-BB0C7F8C0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291826A-1781-4A59-A8BE-FC812F4FF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139226C-E4FB-4D0B-BE9D-6584571AF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135F956-3BD3-4F6F-B2A2-C1B79AC6B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9470F3B-E8F5-4233-A94C-A68F6984F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96A086D-43AB-4DDA-9B73-0B437F603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FCAE227-E29F-47B7-91CA-9314DC8D8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E332E74-9CCC-46C3-9ECE-EFAA78611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44100-BB9B-42CC-917D-1651E15ED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96F61EF-E0AD-471A-BE45-69686943D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05048D1-4690-4FA7-9416-90191DE74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BAE79AC-6589-4223-9A9A-27D58481E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AFCBA3C-DA5B-46CC-845F-CE04C46C2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AEC997E-DA2E-4CA7-8F23-59D5FF417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C332F65-9FF9-43C8-A253-DCB2D3FB1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B117CA6-D375-42D3-B70B-D5EC56731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C3CDCDB-DFCD-4C96-9C10-4628C2CAE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7080630-7AB3-4E26-8C16-BD2E1BDD2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ED57DA5-5274-471E-B260-CF02A733C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C894D-BC02-4491-8959-423A5F286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34575D5-0164-4104-8D37-F7890EFC5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040E435-6606-4359-A9F4-37B0DC178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3FDE6B7-35C7-4B46-869A-EDD65FA26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FE2284F-40FF-4CF9-8655-F5AC234A8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BA1EC0A-1530-4DB4-A808-CBEC9908A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DC9B1BC-A6A2-4222-9B0B-C0302EFE9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F04ED4E-1B29-40B7-BCA0-72A420651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A767117-616D-41F0-865B-B320E77FF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FEEC9BF-0588-4F23-9CB8-C56B5C35D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FC4C3A0-E7AA-48CE-810C-A235A410C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D294A-0CB9-4E94-838E-8F443C70C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6FC5900-5298-4B50-9420-DDC13ED02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C198DE9-2C6A-4AF6-A44F-2A72BC5C8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EBA27FE-3EC7-4CB6-B61B-1C6F0E874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8666738-2ACA-4C6C-99A1-99014B28E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5C42FD9-B24E-4803-885B-82B0CFBCD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8D6F560-AADF-4083-9B8F-B4A5ED411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7DA4D83-6F3E-4F68-8A56-F8E0A9959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CF6E139-4705-4A5F-B471-8BC1AE40B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C3F3066-EC55-44EE-928C-D6E638B45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7245A6D-795B-409A-8F8C-6FAD786BD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2336D-2A23-4570-AE9D-281B96456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4B599-3334-48C9-9480-8D6B324DE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CDAA580-9A98-4826-9F66-B03F9F2D6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ABF73A5-15CC-4326-B7B7-4D153A24B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8634199-7351-4158-9812-62A97AEF3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3599D75-DD2D-4032-B0C4-8309980ED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8EF8AE6-21C7-4420-9CAF-9BAFC5B60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759F17B-1CC4-4292-ABB3-29583AAF8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7869B7B-0F20-42C7-A54E-0FDD80F11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309311E-2E02-404B-BABB-04876BA6A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EDE66FC-49D0-45B1-AC3E-A0643F6F7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8C32644-9679-444F-89AC-F969F8152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1602A-2BEE-4435-9161-5D33CAD65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58FCFCE-E4F0-439F-9256-856F23BD7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E4C58FD-EF3C-4FF4-9737-546A8BBBE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D4C1A32-93C1-4A1F-8642-AC5438257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2422AB2-2BA6-43AF-A07C-2B597DEC5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F3F29B8-E108-47BF-A980-6693A10AC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068A91D-27B4-43CA-A8D0-B7E5E6249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B1FF9D7-E665-4CF7-9F5D-B339E7B18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9C1396D-8E6F-44BE-945B-4C4547AA3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F5BBA09-961A-4001-B9FF-1FA9133AB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E803957-8308-405D-9B40-C88449393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434D7-8542-4BCD-ADC2-647732CF8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9032F19-DEBF-41AA-8298-B809F1EC0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3A88148-B586-4A79-AFE2-E22132538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CC342D8-BCD6-427E-AD39-7C2E7EEDB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BF76A3D-E155-4B7A-8E8A-26CC80681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1EC9CA2-BD7F-425C-9B68-B675AEFCD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270C4C4-F4FA-4C96-89B1-DB920F49D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6D05628-F15E-42DD-812D-F64542312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A9BBEF3-851C-4DC3-B797-0683FDB14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263B933-6929-4ABE-A786-4D407AF13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182AAFA-FB62-4B2B-B5EC-453570B3E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1D5CF-A85D-45AA-9C11-05FB889AB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406B7F5-BA74-457C-93AC-0CE96B9DB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DA6EFC3-E9CF-4B3A-9074-1EDE3A72D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88E460C-B3FF-406C-BD7E-8CD0E987B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7056119-8D06-44D3-8F58-947960E8C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A9A5C8B-A131-4A8B-9121-C65ADEB3D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D3C442B-0463-4F00-B3ED-85C582460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28C0CE2-25CF-4671-B14B-990BC4E03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B38AFC8-3FB7-4F6D-9CE1-7906A3D87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8F1C49D-AC76-4EEE-8D4B-41838563F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8C22C60-2A0A-43AB-84E9-5F72B7455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81856-1FB1-46C2-BF03-8AA51A47B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31EEB14-D0A4-4D52-95EE-CA4C0EE93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33FA9F0-D950-4E8B-89D4-0E8D16310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B29B309-7542-4519-A1F3-3FB596676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E2F8838-ADB2-40FC-851A-16A05C785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C2B6F47-02C1-4C8B-8844-E5685290C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176432F-B1F4-4077-9472-719F490B0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90D98E9-6CD5-4FDA-BD0B-87E1C32F9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38A9BA4-5704-40DF-B0A9-DF881844C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9BC1A5D-4745-4728-81BF-A671FED70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74A563A-8D9D-4BCA-BACA-F5438848C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E19BF2-B41F-4468-A59E-33DE236D4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2217A30-E200-4A4F-B050-91E0C4C00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04AF3CB-F0F7-497D-A1DA-4F4A2A4DF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FF40181-BBCE-4553-A441-542C4D88A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FBF130-70E8-401E-88BA-FED83E08D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82832E-82AF-4299-B488-9A2ADA1CB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FBABA1-79AD-4231-874B-2D50F559C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07A128-BDCD-4954-8372-7F0BF4C79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C6077-B3B0-4705-9671-5AA904FB1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61E72A-3DA9-4A82-A78E-C125D74EE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7E7CC7-06FC-4DF9-B3D6-A49FC91EB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3C1853-CC33-429A-A075-0F8011E57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8E1166-A940-4700-B468-4B08E502E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A8B929-96A4-4CEA-B7BA-65211F0B8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CD41EA-C6A1-413C-BD1E-72C313AFD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F6CF94-A770-4C35-883F-F5800F39F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8F4F4B-02F7-446B-889C-10B87FB04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DC588F-E663-46B9-978E-CB7A2C06E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DCE4B4-DC71-4A62-8DD3-9AE00A504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666BA-8213-49A7-9D62-F3B58F26D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A939CA-148C-4673-BEDA-FD646052D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5C3F0F-B734-4BF8-86F3-3CD5B37B0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E1367E-B1E2-44C4-B50E-42C8CBEA4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4279F5-FF67-4C1F-96A5-E5441BDE7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50C688-41AE-4A17-B005-21C5DECB5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E18569-93EA-490A-A10C-34A802600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38741F-400C-4BAE-ACCE-4ED2C8E15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876095-E7F1-4145-BB8C-D55507E94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85D990-635D-4FD9-A410-5EE9E4328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61862F-0FF7-4C9A-99A7-E86D20B03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DE951-190D-41BE-96C5-818EFBABD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C16268-8FC9-4EA3-99B7-2E7FA021A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5B55DE-75EF-4236-8AA2-42A91016C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83F8CD-30F9-476C-8F6C-DA42ACCCF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0647D1-B328-49C9-8182-D18A1DFF4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33F8B0-34A7-491D-8744-8947F2DF8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A3E85F-4100-4D41-AA1B-69A20F417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A341D1-FCD8-44A9-BBB2-717825FEA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989D67-EA65-46AD-B354-C07AF5C08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4E0DB8-E256-4980-8981-F97A20DC7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0D3BCE-41CA-448D-B1AD-CA8555890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05B1F-6F40-43A1-9D67-5C16700E1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6E077C-A291-49BA-B227-DCB878D74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DD8DCE-407B-46CF-BD02-4B758900D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B1BAB4-989E-4ACD-8F24-F46A503C5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F831EB-C8DF-4575-BAF8-AC7BB0CE3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7E9BAB-E8FB-4369-B405-1EE3390AC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EE5B2E-6E14-4B83-A4EF-0AF43E81A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5A241E-7E05-4CD9-8467-0FA0BC8FF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114735-D048-4417-95F4-B527B2799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F9869B-94AD-4EAE-91E3-916DBE090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FD4F58-5EC9-4D6A-83DB-ACFE21DEB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654C8-9DCA-4D24-9CC5-D7D973810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3EDEBF-2801-4ADA-9CC2-FE2ABEC96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216AC2-C63F-4524-A71A-E356F22D9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F98E73-B046-4686-9D41-9A14E7D9D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2ED5C7-E1E6-4D43-A6C2-9782F0DCB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7609C2-F090-4CB7-8A0F-D4FD2F5D9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E27944-209A-4B64-8E59-C576DEFD3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0806D4-E26E-47E3-96EC-DA76A2C8E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05237F-D3D2-417E-B8E1-0C4013E99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195514-2591-496B-BFDD-8A7A8C929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3E6073-807C-4337-8C7C-65C6748E1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5BF8F-3983-4345-B858-93800EC5E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466379-5A66-43FD-9A7A-0E42AEE2B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2E897E-0988-4B84-BF28-AA97D34B3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AF0A59-001C-403F-B7D3-8DD7F75AF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121C7A-E639-4ED8-9006-1589A970C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F7D1E5-0407-4961-9FED-C76143FF1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49E39F-1975-411B-8EEA-6A3A69C36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6BB7FB-81AC-411B-8409-7C17260A9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0E6960-9BB3-4CBE-AC85-1BDC4E0A8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86E66D-47A7-468A-B3F0-097FA57E6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B1129E-F4E9-499E-ADAA-EC6605E5C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EF556-1CD4-41FF-AD48-150325F64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AA3CCF-0B05-4FFC-88B4-820B79F90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CAAE48-9B44-4E34-8269-A30FEE174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A1F3B3-4451-4FD4-B4CB-A4AC00020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D2C438-F100-4867-A495-B15411130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40546B-9DC3-4635-A6E2-A47EE477D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DA0D77-914D-4541-B5E1-7129D8890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E743F7-C35B-4D88-8BE9-143156406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E9A4E0-3912-422A-97C5-983528291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CA1EB1-D05A-457B-A580-DB7665F22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C86B1F-0E5E-403C-844B-A1D6788CD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90081-07CB-4527-990B-5CC6F1F65C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EC39C-C9D9-4EE7-A784-8DA582FCC51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B93F2-B83B-423C-8EF5-E2685CD1253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6F81E-9234-4B86-92B8-DE00841ECBC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08744-BF50-4EDC-9AA5-132C581C0F8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F09D9-ED6A-4CE1-A948-E0C02889F94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4F8FA-CE7A-4579-8017-6314E8B846C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8C6DD-29DA-4471-8447-539D7166732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E0C77-A5A2-47E6-B55A-BE953AC6371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1AEB3-4301-4A4C-8C52-DC68D6681DB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77DEA-A95B-461E-BFFE-205062C558F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346F2-4D6D-4222-8099-5E0891C51A5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D8914-281A-4ED6-8F5A-291A4D3E89B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9513E-4FBF-4FB8-BB9B-DC0694944FD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A0ECB-DC9E-4703-8643-60072387101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D12A1-B0C6-47AB-8CF7-1F1F8ADA706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1CCF3-5267-45E6-AC99-D52D17A5C88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CEE36-8CFF-4A5E-A434-BA458E64A91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2BD5D-B5DA-4DA7-B43D-9F31780CB7B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53C0A-C6BD-456F-A6CB-D0A32473935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57CE5-FFCE-44CD-8ACD-E40812E3944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97DE8-A408-40C3-9039-3F711FFC3F9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B4365-E05E-4723-8335-8C18C782BBE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4DAC3-69E5-45F7-88EF-4032B7D8268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81567-21F5-400F-84BF-E6F167E0188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7D0A2-25D1-4C3B-9882-3A59267F71D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375F9-54F3-4040-8149-29F4AEA16DB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D8F4E-6A83-415B-8341-0B8FE9EB3E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4ABFA-A3F8-40B0-A78A-74627AEDF04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F1193-1314-4D95-A60F-2BA6800F780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F1515-AA3F-4E25-8A1D-2B38D9D3935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924CF-3157-4EE5-899B-49BD84FF8EE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7421A-007F-4F77-B783-CA081B12CAA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97E20-5A95-44C7-A921-02C8F6224D7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1EC0B-8A8A-4D12-9E3D-1405F6D35B4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B3672-E33E-4496-B2EF-660630D1294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6B657-934B-4A44-9F07-B986DCB6DB2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0B877-85B9-4598-8D34-D714C6FB586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97BD6-EE25-4538-88D5-39B34D754E2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0A2C2-0F5F-4F33-8DE9-30FEEDDFCC7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image" Target="../media/image13.png"/><Relationship Id="rId12" Type="http://schemas.openxmlformats.org/officeDocument/2006/relationships/image" Target="../media/image13.png"/><Relationship Id="rId13" Type="http://schemas.openxmlformats.org/officeDocument/2006/relationships/image" Target="../media/image13.png"/><Relationship Id="rId14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2" name="Picture 1" descr=""/>
          <p:cNvPicPr/>
          <p:nvPr/>
        </p:nvPicPr>
        <p:blipFill>
          <a:blip r:embed="rId1"/>
          <a:stretch/>
        </p:blipFill>
        <p:spPr>
          <a:xfrm>
            <a:off x="1000080" y="3000240"/>
            <a:ext cx="7477200" cy="6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3" name="Picture 1" descr=""/>
          <p:cNvPicPr/>
          <p:nvPr/>
        </p:nvPicPr>
        <p:blipFill>
          <a:blip r:embed="rId1"/>
          <a:stretch/>
        </p:blipFill>
        <p:spPr>
          <a:xfrm>
            <a:off x="285840" y="785880"/>
            <a:ext cx="8582040" cy="5743440"/>
          </a:xfrm>
          <a:prstGeom prst="rect">
            <a:avLst/>
          </a:prstGeom>
          <a:ln w="0">
            <a:noFill/>
          </a:ln>
        </p:spPr>
      </p:pic>
      <p:pic>
        <p:nvPicPr>
          <p:cNvPr id="1024" name="Picture 4" descr=""/>
          <p:cNvPicPr/>
          <p:nvPr/>
        </p:nvPicPr>
        <p:blipFill>
          <a:blip r:embed="rId2"/>
          <a:stretch/>
        </p:blipFill>
        <p:spPr>
          <a:xfrm>
            <a:off x="703440" y="2836800"/>
            <a:ext cx="542880" cy="43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5" name="Picture 1" descr=""/>
          <p:cNvPicPr/>
          <p:nvPr/>
        </p:nvPicPr>
        <p:blipFill>
          <a:blip r:embed="rId1"/>
          <a:stretch/>
        </p:blipFill>
        <p:spPr>
          <a:xfrm>
            <a:off x="314280" y="961920"/>
            <a:ext cx="8515440" cy="5610240"/>
          </a:xfrm>
          <a:prstGeom prst="rect">
            <a:avLst/>
          </a:prstGeom>
          <a:ln w="0">
            <a:noFill/>
          </a:ln>
        </p:spPr>
      </p:pic>
      <p:pic>
        <p:nvPicPr>
          <p:cNvPr id="1026" name="Picture 4" descr=""/>
          <p:cNvPicPr/>
          <p:nvPr/>
        </p:nvPicPr>
        <p:blipFill>
          <a:blip r:embed="rId2"/>
          <a:stretch/>
        </p:blipFill>
        <p:spPr>
          <a:xfrm>
            <a:off x="750960" y="1000080"/>
            <a:ext cx="542880" cy="430200"/>
          </a:xfrm>
          <a:prstGeom prst="rect">
            <a:avLst/>
          </a:prstGeom>
          <a:ln w="0">
            <a:noFill/>
          </a:ln>
        </p:spPr>
      </p:pic>
      <p:pic>
        <p:nvPicPr>
          <p:cNvPr id="1027" name="Picture 4" descr=""/>
          <p:cNvPicPr/>
          <p:nvPr/>
        </p:nvPicPr>
        <p:blipFill>
          <a:blip r:embed="rId3"/>
          <a:stretch/>
        </p:blipFill>
        <p:spPr>
          <a:xfrm>
            <a:off x="750960" y="5386320"/>
            <a:ext cx="542880" cy="4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" dur="5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" dur="5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8" name="Picture 1" descr=""/>
          <p:cNvPicPr/>
          <p:nvPr/>
        </p:nvPicPr>
        <p:blipFill>
          <a:blip r:embed="rId1"/>
          <a:stretch/>
        </p:blipFill>
        <p:spPr>
          <a:xfrm>
            <a:off x="285840" y="928800"/>
            <a:ext cx="8543880" cy="554328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4" descr=""/>
          <p:cNvPicPr/>
          <p:nvPr/>
        </p:nvPicPr>
        <p:blipFill>
          <a:blip r:embed="rId2"/>
          <a:stretch/>
        </p:blipFill>
        <p:spPr>
          <a:xfrm>
            <a:off x="750960" y="3436920"/>
            <a:ext cx="542880" cy="43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0" name="Picture 1" descr=""/>
          <p:cNvPicPr/>
          <p:nvPr/>
        </p:nvPicPr>
        <p:blipFill>
          <a:blip r:embed="rId1"/>
          <a:stretch/>
        </p:blipFill>
        <p:spPr>
          <a:xfrm>
            <a:off x="428760" y="750960"/>
            <a:ext cx="8377200" cy="601488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4" descr=""/>
          <p:cNvPicPr/>
          <p:nvPr/>
        </p:nvPicPr>
        <p:blipFill>
          <a:blip r:embed="rId2"/>
          <a:stretch/>
        </p:blipFill>
        <p:spPr>
          <a:xfrm>
            <a:off x="906480" y="1968480"/>
            <a:ext cx="542880" cy="43200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4" descr=""/>
          <p:cNvPicPr/>
          <p:nvPr/>
        </p:nvPicPr>
        <p:blipFill>
          <a:blip r:embed="rId3"/>
          <a:stretch/>
        </p:blipFill>
        <p:spPr>
          <a:xfrm>
            <a:off x="2000160" y="6327720"/>
            <a:ext cx="785880" cy="370080"/>
          </a:xfrm>
          <a:prstGeom prst="rect">
            <a:avLst/>
          </a:prstGeom>
          <a:ln w="0">
            <a:noFill/>
          </a:ln>
        </p:spPr>
      </p:pic>
      <p:pic>
        <p:nvPicPr>
          <p:cNvPr id="1033" name="Picture 4" descr=""/>
          <p:cNvPicPr/>
          <p:nvPr/>
        </p:nvPicPr>
        <p:blipFill>
          <a:blip r:embed="rId4"/>
          <a:stretch/>
        </p:blipFill>
        <p:spPr>
          <a:xfrm>
            <a:off x="3286080" y="6327720"/>
            <a:ext cx="1428840" cy="370080"/>
          </a:xfrm>
          <a:prstGeom prst="rect">
            <a:avLst/>
          </a:prstGeom>
          <a:ln w="0">
            <a:noFill/>
          </a:ln>
        </p:spPr>
      </p:pic>
      <p:pic>
        <p:nvPicPr>
          <p:cNvPr id="1034" name="Picture 4" descr=""/>
          <p:cNvPicPr/>
          <p:nvPr/>
        </p:nvPicPr>
        <p:blipFill>
          <a:blip r:embed="rId5"/>
          <a:stretch/>
        </p:blipFill>
        <p:spPr>
          <a:xfrm>
            <a:off x="4929120" y="6327720"/>
            <a:ext cx="1143000" cy="3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7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2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7" dur="5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5" name="Picture 1" descr=""/>
          <p:cNvPicPr/>
          <p:nvPr/>
        </p:nvPicPr>
        <p:blipFill>
          <a:blip r:embed="rId1"/>
          <a:stretch/>
        </p:blipFill>
        <p:spPr>
          <a:xfrm>
            <a:off x="357120" y="785880"/>
            <a:ext cx="8487000" cy="6000840"/>
          </a:xfrm>
          <a:prstGeom prst="rect">
            <a:avLst/>
          </a:prstGeom>
          <a:ln w="0">
            <a:noFill/>
          </a:ln>
        </p:spPr>
      </p:pic>
      <p:pic>
        <p:nvPicPr>
          <p:cNvPr id="1036" name="Picture 4" descr=""/>
          <p:cNvPicPr/>
          <p:nvPr/>
        </p:nvPicPr>
        <p:blipFill>
          <a:blip r:embed="rId2"/>
          <a:stretch/>
        </p:blipFill>
        <p:spPr>
          <a:xfrm>
            <a:off x="2071800" y="1469880"/>
            <a:ext cx="714240" cy="370080"/>
          </a:xfrm>
          <a:prstGeom prst="rect">
            <a:avLst/>
          </a:prstGeom>
          <a:ln w="0">
            <a:noFill/>
          </a:ln>
        </p:spPr>
      </p:pic>
      <p:pic>
        <p:nvPicPr>
          <p:cNvPr id="1037" name="Picture 4" descr=""/>
          <p:cNvPicPr/>
          <p:nvPr/>
        </p:nvPicPr>
        <p:blipFill>
          <a:blip r:embed="rId3"/>
          <a:stretch/>
        </p:blipFill>
        <p:spPr>
          <a:xfrm>
            <a:off x="3214800" y="1500120"/>
            <a:ext cx="1143000" cy="368280"/>
          </a:xfrm>
          <a:prstGeom prst="rect">
            <a:avLst/>
          </a:prstGeom>
          <a:ln w="0">
            <a:noFill/>
          </a:ln>
        </p:spPr>
      </p:pic>
      <p:pic>
        <p:nvPicPr>
          <p:cNvPr id="1038" name="Picture 4" descr=""/>
          <p:cNvPicPr/>
          <p:nvPr/>
        </p:nvPicPr>
        <p:blipFill>
          <a:blip r:embed="rId4"/>
          <a:stretch/>
        </p:blipFill>
        <p:spPr>
          <a:xfrm>
            <a:off x="4786200" y="1479600"/>
            <a:ext cx="928800" cy="368280"/>
          </a:xfrm>
          <a:prstGeom prst="rect">
            <a:avLst/>
          </a:prstGeom>
          <a:ln w="0">
            <a:noFill/>
          </a:ln>
        </p:spPr>
      </p:pic>
      <p:pic>
        <p:nvPicPr>
          <p:cNvPr id="1039" name="Picture 4" descr=""/>
          <p:cNvPicPr/>
          <p:nvPr/>
        </p:nvPicPr>
        <p:blipFill>
          <a:blip r:embed="rId5"/>
          <a:stretch/>
        </p:blipFill>
        <p:spPr>
          <a:xfrm>
            <a:off x="3706920" y="2706840"/>
            <a:ext cx="1143000" cy="368280"/>
          </a:xfrm>
          <a:prstGeom prst="rect">
            <a:avLst/>
          </a:prstGeom>
          <a:ln w="0">
            <a:noFill/>
          </a:ln>
        </p:spPr>
      </p:pic>
      <p:pic>
        <p:nvPicPr>
          <p:cNvPr id="1040" name="Picture 4" descr=""/>
          <p:cNvPicPr/>
          <p:nvPr/>
        </p:nvPicPr>
        <p:blipFill>
          <a:blip r:embed="rId6"/>
          <a:stretch/>
        </p:blipFill>
        <p:spPr>
          <a:xfrm>
            <a:off x="1000080" y="3317760"/>
            <a:ext cx="1143000" cy="368280"/>
          </a:xfrm>
          <a:prstGeom prst="rect">
            <a:avLst/>
          </a:prstGeom>
          <a:ln w="0">
            <a:noFill/>
          </a:ln>
        </p:spPr>
      </p:pic>
      <p:pic>
        <p:nvPicPr>
          <p:cNvPr id="1041" name="Picture 4" descr=""/>
          <p:cNvPicPr/>
          <p:nvPr/>
        </p:nvPicPr>
        <p:blipFill>
          <a:blip r:embed="rId7"/>
          <a:stretch/>
        </p:blipFill>
        <p:spPr>
          <a:xfrm>
            <a:off x="2714760" y="3306600"/>
            <a:ext cx="1143000" cy="368640"/>
          </a:xfrm>
          <a:prstGeom prst="rect">
            <a:avLst/>
          </a:prstGeom>
          <a:ln w="0">
            <a:noFill/>
          </a:ln>
        </p:spPr>
      </p:pic>
      <p:pic>
        <p:nvPicPr>
          <p:cNvPr id="1042" name="Picture 4" descr=""/>
          <p:cNvPicPr/>
          <p:nvPr/>
        </p:nvPicPr>
        <p:blipFill>
          <a:blip r:embed="rId8"/>
          <a:stretch/>
        </p:blipFill>
        <p:spPr>
          <a:xfrm>
            <a:off x="2214720" y="4532400"/>
            <a:ext cx="1143000" cy="368280"/>
          </a:xfrm>
          <a:prstGeom prst="rect">
            <a:avLst/>
          </a:prstGeom>
          <a:ln w="0">
            <a:noFill/>
          </a:ln>
        </p:spPr>
      </p:pic>
      <p:pic>
        <p:nvPicPr>
          <p:cNvPr id="1043" name="Picture 4" descr=""/>
          <p:cNvPicPr/>
          <p:nvPr/>
        </p:nvPicPr>
        <p:blipFill>
          <a:blip r:embed="rId9"/>
          <a:stretch/>
        </p:blipFill>
        <p:spPr>
          <a:xfrm>
            <a:off x="6572160" y="4549680"/>
            <a:ext cx="1785960" cy="368280"/>
          </a:xfrm>
          <a:prstGeom prst="rect">
            <a:avLst/>
          </a:prstGeom>
          <a:ln w="0">
            <a:noFill/>
          </a:ln>
        </p:spPr>
      </p:pic>
      <p:pic>
        <p:nvPicPr>
          <p:cNvPr id="1044" name="Picture 4" descr=""/>
          <p:cNvPicPr/>
          <p:nvPr/>
        </p:nvPicPr>
        <p:blipFill>
          <a:blip r:embed="rId10"/>
          <a:stretch/>
        </p:blipFill>
        <p:spPr>
          <a:xfrm>
            <a:off x="1000080" y="5154480"/>
            <a:ext cx="1714680" cy="368280"/>
          </a:xfrm>
          <a:prstGeom prst="rect">
            <a:avLst/>
          </a:prstGeom>
          <a:ln w="0">
            <a:noFill/>
          </a:ln>
        </p:spPr>
      </p:pic>
      <p:pic>
        <p:nvPicPr>
          <p:cNvPr id="1045" name="Picture 4" descr=""/>
          <p:cNvPicPr/>
          <p:nvPr/>
        </p:nvPicPr>
        <p:blipFill>
          <a:blip r:embed="rId11"/>
          <a:stretch/>
        </p:blipFill>
        <p:spPr>
          <a:xfrm>
            <a:off x="3541680" y="6378480"/>
            <a:ext cx="642960" cy="368280"/>
          </a:xfrm>
          <a:prstGeom prst="rect">
            <a:avLst/>
          </a:prstGeom>
          <a:ln w="0">
            <a:noFill/>
          </a:ln>
        </p:spPr>
      </p:pic>
      <p:pic>
        <p:nvPicPr>
          <p:cNvPr id="1046" name="Picture 4" descr=""/>
          <p:cNvPicPr/>
          <p:nvPr/>
        </p:nvPicPr>
        <p:blipFill>
          <a:blip r:embed="rId12"/>
          <a:stretch/>
        </p:blipFill>
        <p:spPr>
          <a:xfrm>
            <a:off x="5072040" y="6378480"/>
            <a:ext cx="1143000" cy="368280"/>
          </a:xfrm>
          <a:prstGeom prst="rect">
            <a:avLst/>
          </a:prstGeom>
          <a:ln w="0">
            <a:noFill/>
          </a:ln>
        </p:spPr>
      </p:pic>
      <p:pic>
        <p:nvPicPr>
          <p:cNvPr id="1047" name="Picture 4" descr=""/>
          <p:cNvPicPr/>
          <p:nvPr/>
        </p:nvPicPr>
        <p:blipFill>
          <a:blip r:embed="rId13"/>
          <a:stretch/>
        </p:blipFill>
        <p:spPr>
          <a:xfrm>
            <a:off x="6673680" y="6378480"/>
            <a:ext cx="500400" cy="36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4" dur="5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9" dur="5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4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9" dur="5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4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9" dur="5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4" dur="5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9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4" dur="5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9" dur="5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4" dur="5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9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8" name="Picture 1" descr=""/>
          <p:cNvPicPr/>
          <p:nvPr/>
        </p:nvPicPr>
        <p:blipFill>
          <a:blip r:embed="rId1"/>
          <a:stretch/>
        </p:blipFill>
        <p:spPr>
          <a:xfrm>
            <a:off x="366840" y="804960"/>
            <a:ext cx="8410320" cy="5981760"/>
          </a:xfrm>
          <a:prstGeom prst="rect">
            <a:avLst/>
          </a:prstGeom>
          <a:ln w="0">
            <a:noFill/>
          </a:ln>
        </p:spPr>
      </p:pic>
      <p:pic>
        <p:nvPicPr>
          <p:cNvPr id="1049" name="Picture 4" descr=""/>
          <p:cNvPicPr/>
          <p:nvPr/>
        </p:nvPicPr>
        <p:blipFill>
          <a:blip r:embed="rId2"/>
          <a:stretch/>
        </p:blipFill>
        <p:spPr>
          <a:xfrm>
            <a:off x="7207200" y="1469880"/>
            <a:ext cx="1143000" cy="370080"/>
          </a:xfrm>
          <a:prstGeom prst="rect">
            <a:avLst/>
          </a:prstGeom>
          <a:ln w="0">
            <a:noFill/>
          </a:ln>
        </p:spPr>
      </p:pic>
      <p:pic>
        <p:nvPicPr>
          <p:cNvPr id="1050" name="Picture 4" descr=""/>
          <p:cNvPicPr/>
          <p:nvPr/>
        </p:nvPicPr>
        <p:blipFill>
          <a:blip r:embed="rId3"/>
          <a:stretch/>
        </p:blipFill>
        <p:spPr>
          <a:xfrm>
            <a:off x="7786800" y="2695680"/>
            <a:ext cx="1143000" cy="368280"/>
          </a:xfrm>
          <a:prstGeom prst="rect">
            <a:avLst/>
          </a:prstGeom>
          <a:ln w="0">
            <a:noFill/>
          </a:ln>
        </p:spPr>
      </p:pic>
      <p:pic>
        <p:nvPicPr>
          <p:cNvPr id="1051" name="Picture 4" descr=""/>
          <p:cNvPicPr/>
          <p:nvPr/>
        </p:nvPicPr>
        <p:blipFill>
          <a:blip r:embed="rId4"/>
          <a:stretch/>
        </p:blipFill>
        <p:spPr>
          <a:xfrm>
            <a:off x="785880" y="3286080"/>
            <a:ext cx="1143000" cy="368280"/>
          </a:xfrm>
          <a:prstGeom prst="rect">
            <a:avLst/>
          </a:prstGeom>
          <a:ln w="0">
            <a:noFill/>
          </a:ln>
        </p:spPr>
      </p:pic>
      <p:pic>
        <p:nvPicPr>
          <p:cNvPr id="1052" name="Picture 4" descr=""/>
          <p:cNvPicPr/>
          <p:nvPr/>
        </p:nvPicPr>
        <p:blipFill>
          <a:blip r:embed="rId5"/>
          <a:stretch/>
        </p:blipFill>
        <p:spPr>
          <a:xfrm>
            <a:off x="6072120" y="3889440"/>
            <a:ext cx="1785960" cy="368280"/>
          </a:xfrm>
          <a:prstGeom prst="rect">
            <a:avLst/>
          </a:prstGeom>
          <a:ln w="0">
            <a:noFill/>
          </a:ln>
        </p:spPr>
      </p:pic>
      <p:pic>
        <p:nvPicPr>
          <p:cNvPr id="1053" name="Picture 4" descr=""/>
          <p:cNvPicPr/>
          <p:nvPr/>
        </p:nvPicPr>
        <p:blipFill>
          <a:blip r:embed="rId6"/>
          <a:stretch/>
        </p:blipFill>
        <p:spPr>
          <a:xfrm>
            <a:off x="3857760" y="5143680"/>
            <a:ext cx="1428480" cy="368280"/>
          </a:xfrm>
          <a:prstGeom prst="rect">
            <a:avLst/>
          </a:prstGeom>
          <a:ln w="0">
            <a:noFill/>
          </a:ln>
        </p:spPr>
      </p:pic>
      <p:pic>
        <p:nvPicPr>
          <p:cNvPr id="1054" name="Picture 4" descr=""/>
          <p:cNvPicPr/>
          <p:nvPr/>
        </p:nvPicPr>
        <p:blipFill>
          <a:blip r:embed="rId7"/>
          <a:stretch/>
        </p:blipFill>
        <p:spPr>
          <a:xfrm>
            <a:off x="3286080" y="5746680"/>
            <a:ext cx="1357200" cy="36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6" dur="5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1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6" dur="5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1" dur="5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6" dur="5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1" dur="5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5" name="Picture 1" descr=""/>
          <p:cNvPicPr/>
          <p:nvPr/>
        </p:nvPicPr>
        <p:blipFill>
          <a:blip r:embed="rId1"/>
          <a:stretch/>
        </p:blipFill>
        <p:spPr>
          <a:xfrm>
            <a:off x="357120" y="738360"/>
            <a:ext cx="8534520" cy="6048360"/>
          </a:xfrm>
          <a:prstGeom prst="rect">
            <a:avLst/>
          </a:prstGeom>
          <a:ln w="0">
            <a:noFill/>
          </a:ln>
        </p:spPr>
      </p:pic>
      <p:pic>
        <p:nvPicPr>
          <p:cNvPr id="1056" name="Picture 4" descr=""/>
          <p:cNvPicPr/>
          <p:nvPr/>
        </p:nvPicPr>
        <p:blipFill>
          <a:blip r:embed="rId2"/>
          <a:stretch/>
        </p:blipFill>
        <p:spPr>
          <a:xfrm>
            <a:off x="3929040" y="3357720"/>
            <a:ext cx="1143000" cy="368280"/>
          </a:xfrm>
          <a:prstGeom prst="rect">
            <a:avLst/>
          </a:prstGeom>
          <a:ln w="0">
            <a:noFill/>
          </a:ln>
        </p:spPr>
      </p:pic>
      <p:pic>
        <p:nvPicPr>
          <p:cNvPr id="1057" name="Picture 4" descr=""/>
          <p:cNvPicPr/>
          <p:nvPr/>
        </p:nvPicPr>
        <p:blipFill>
          <a:blip r:embed="rId3"/>
          <a:stretch/>
        </p:blipFill>
        <p:spPr>
          <a:xfrm>
            <a:off x="7143840" y="3355920"/>
            <a:ext cx="1143000" cy="370080"/>
          </a:xfrm>
          <a:prstGeom prst="rect">
            <a:avLst/>
          </a:prstGeom>
          <a:ln w="0">
            <a:noFill/>
          </a:ln>
        </p:spPr>
      </p:pic>
      <p:pic>
        <p:nvPicPr>
          <p:cNvPr id="1058" name="Picture 4" descr=""/>
          <p:cNvPicPr/>
          <p:nvPr/>
        </p:nvPicPr>
        <p:blipFill>
          <a:blip r:embed="rId4"/>
          <a:stretch/>
        </p:blipFill>
        <p:spPr>
          <a:xfrm>
            <a:off x="3214800" y="3970440"/>
            <a:ext cx="1143000" cy="369720"/>
          </a:xfrm>
          <a:prstGeom prst="rect">
            <a:avLst/>
          </a:prstGeom>
          <a:ln w="0">
            <a:noFill/>
          </a:ln>
        </p:spPr>
      </p:pic>
      <p:pic>
        <p:nvPicPr>
          <p:cNvPr id="1059" name="Picture 4" descr=""/>
          <p:cNvPicPr/>
          <p:nvPr/>
        </p:nvPicPr>
        <p:blipFill>
          <a:blip r:embed="rId5"/>
          <a:stretch/>
        </p:blipFill>
        <p:spPr>
          <a:xfrm>
            <a:off x="2000160" y="4583160"/>
            <a:ext cx="1143000" cy="368280"/>
          </a:xfrm>
          <a:prstGeom prst="rect">
            <a:avLst/>
          </a:prstGeom>
          <a:ln w="0">
            <a:noFill/>
          </a:ln>
        </p:spPr>
      </p:pic>
      <p:pic>
        <p:nvPicPr>
          <p:cNvPr id="1060" name="Picture 4" descr=""/>
          <p:cNvPicPr/>
          <p:nvPr/>
        </p:nvPicPr>
        <p:blipFill>
          <a:blip r:embed="rId6"/>
          <a:stretch/>
        </p:blipFill>
        <p:spPr>
          <a:xfrm>
            <a:off x="6858000" y="4572000"/>
            <a:ext cx="1714680" cy="368280"/>
          </a:xfrm>
          <a:prstGeom prst="rect">
            <a:avLst/>
          </a:prstGeom>
          <a:ln w="0">
            <a:noFill/>
          </a:ln>
        </p:spPr>
      </p:pic>
      <p:pic>
        <p:nvPicPr>
          <p:cNvPr id="1061" name="Picture 4" descr=""/>
          <p:cNvPicPr/>
          <p:nvPr/>
        </p:nvPicPr>
        <p:blipFill>
          <a:blip r:embed="rId7"/>
          <a:stretch/>
        </p:blipFill>
        <p:spPr>
          <a:xfrm>
            <a:off x="6572160" y="5194440"/>
            <a:ext cx="1143000" cy="36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8" dur="5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3" dur="5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8" dur="5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3" dur="5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8" dur="5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3" dur="5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2" name="Picture 1" descr=""/>
          <p:cNvPicPr/>
          <p:nvPr/>
        </p:nvPicPr>
        <p:blipFill>
          <a:blip r:embed="rId1"/>
          <a:stretch/>
        </p:blipFill>
        <p:spPr>
          <a:xfrm>
            <a:off x="328680" y="1014480"/>
            <a:ext cx="8486640" cy="4829040"/>
          </a:xfrm>
          <a:prstGeom prst="rect">
            <a:avLst/>
          </a:prstGeom>
          <a:ln w="0">
            <a:noFill/>
          </a:ln>
        </p:spPr>
      </p:pic>
      <p:pic>
        <p:nvPicPr>
          <p:cNvPr id="1063" name="Picture 4" descr=""/>
          <p:cNvPicPr/>
          <p:nvPr/>
        </p:nvPicPr>
        <p:blipFill>
          <a:blip r:embed="rId2"/>
          <a:stretch/>
        </p:blipFill>
        <p:spPr>
          <a:xfrm>
            <a:off x="7236000" y="1112760"/>
            <a:ext cx="1143000" cy="370080"/>
          </a:xfrm>
          <a:prstGeom prst="rect">
            <a:avLst/>
          </a:prstGeom>
          <a:ln w="0">
            <a:noFill/>
          </a:ln>
        </p:spPr>
      </p:pic>
      <p:pic>
        <p:nvPicPr>
          <p:cNvPr id="1064" name="Picture 4" descr=""/>
          <p:cNvPicPr/>
          <p:nvPr/>
        </p:nvPicPr>
        <p:blipFill>
          <a:blip r:embed="rId3"/>
          <a:stretch/>
        </p:blipFill>
        <p:spPr>
          <a:xfrm>
            <a:off x="4286160" y="1725480"/>
            <a:ext cx="1500120" cy="36828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4" descr=""/>
          <p:cNvPicPr/>
          <p:nvPr/>
        </p:nvPicPr>
        <p:blipFill>
          <a:blip r:embed="rId4"/>
          <a:stretch/>
        </p:blipFill>
        <p:spPr>
          <a:xfrm>
            <a:off x="1785960" y="2960640"/>
            <a:ext cx="1643040" cy="368280"/>
          </a:xfrm>
          <a:prstGeom prst="rect">
            <a:avLst/>
          </a:prstGeom>
          <a:ln w="0">
            <a:noFill/>
          </a:ln>
        </p:spPr>
      </p:pic>
      <p:pic>
        <p:nvPicPr>
          <p:cNvPr id="1066" name="Picture 4" descr=""/>
          <p:cNvPicPr/>
          <p:nvPr/>
        </p:nvPicPr>
        <p:blipFill>
          <a:blip r:embed="rId5"/>
          <a:stretch/>
        </p:blipFill>
        <p:spPr>
          <a:xfrm>
            <a:off x="7500960" y="4786200"/>
            <a:ext cx="1143000" cy="36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0" dur="5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5" dur="5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0" dur="500"/>
                                        <p:tgtEl>
                                          <p:spTgt spid="10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5" dur="500"/>
                                        <p:tgtEl>
                                          <p:spTgt spid="10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加冕成王</cp:lastModifiedBy>
  <dcterms:modified xsi:type="dcterms:W3CDTF">2020-07-18T01:22:06Z</dcterms:modified>
  <cp:revision>4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828</vt:lpwstr>
  </property>
</Properties>
</file>